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2F8-2556-48E7-9792-76A8842E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76B-266C-4F92-A24B-A9940A35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3B69F-A3F0-465B-A30B-10142820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3507D-79E7-42CF-A360-6DD26DB2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9C8DB-F01E-4659-BAA6-CA591897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339EC-9206-42E7-BC5E-A43F8AC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6DECB-4EE9-495E-B5EF-6F3E4469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0E4D9-3486-4CE5-8DE8-C6EF602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4B966-B6C1-44F0-976B-4EA4BF61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11B1B-13BA-42E3-8D14-E04B06B4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7A845-2E65-430F-B1EA-A7AF284E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D48A4-28BC-43CC-AB04-9A5226BA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8DB-2364-4AA6-9025-5CE7C737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C474A-E2B7-4D59-A841-C2192609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A6C8E-24D0-4701-A70C-3E4DFE06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CBD70-F640-4BA6-B866-A8E84329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9C61E-34AC-4839-8EE8-A264B67D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CDABC-7511-4ECE-A01C-F358F818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08674-F8C2-422C-97CA-38D275C9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CE827-9F12-45CC-BAEF-F42BA55F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51E53-BB31-4F3E-9F01-CC40585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9854B-AE1B-49FB-A569-36764C7B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F7BA2-8F03-479A-AA3C-AC85915C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9F8-7E2D-4AA8-A7C7-41338347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3C3B1-6A66-430F-8BDA-7E57465B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7CB69-2C64-4D55-886F-4AC4D8C3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C2AFB-DF6A-44F6-AFD3-0C3D98EC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F0F77-BA57-4238-B37A-EE1BA01B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65C88-BE1F-40F7-A8BE-BCB4C83C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48AFA-B234-4F26-AE9C-B969C846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F24BE-FB89-4AB2-BB3E-D9EDA25F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15B76-8BC8-4FE9-A17D-A9AEE119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6BF43-7C97-4D21-85F4-D137DB3B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538A7-1E53-48AC-B2BC-A492C60D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86FB-0F20-4A5D-A8CE-A5CF3CE5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12C70-A275-48AC-9E36-69B6CE51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FBAAE-1315-4ED2-963E-FB71386B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972A5-244D-482F-A184-F3DE9338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E762F-37DC-464A-A390-4015D9CB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4611F-9D5E-48F5-8E0A-F08D97DC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E2C63-4F87-44A1-A10F-1E59E9A6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3E6B6-15F6-4368-8BE7-B4238272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81043-A433-4F1B-B01D-4F70846A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039E6-0BEE-4B92-B93D-C7B4AE13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C2E2E-F83D-400E-8CDE-695B4177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7871-CBB2-42B1-9A4F-69B65ED6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D7A09-48CF-4480-A6D8-1B641F47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5E5AE-8034-4E33-A329-CA03FED0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384E7-8300-48A2-8AC8-785F94DC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60596-B781-4C01-B05C-5EA80AA5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20677-3837-4A88-B738-1748A047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2E4AB-41E3-4102-AA9D-C19CD428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4FFCD-0CDB-4A60-832D-5356B3C7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CA9DF-AD6D-4C0F-926D-CFC58349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33C05-9938-4562-A531-BEF4FD73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3EEFD-A4E2-4652-A8EF-D02B3C05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8312-2AE5-4158-8EF2-047DB2DA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7AF94-BA05-415C-B672-C79BEC01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1E715-B199-4196-AF7B-6337284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16AAF-30D6-45BB-BEE0-149AD1C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C79E1-6817-4968-8550-93EB114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AD027-6E72-45CA-A155-6391A4F5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A650E-3669-4D0E-A4EB-9C1B50F4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8873E-4CBD-43F1-9425-283DB908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4C96F-AA52-41A1-85F0-ADA46888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F67CE-3B6A-4595-AB7D-5BEF2A83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E3A93-9876-4A7D-B9B4-1B406517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1566-CBAB-4CF5-8C55-203BB73E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934A9-4DA7-44BB-AA5A-55CDBAB4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CEF31-E9DC-42F2-85AF-9ED492C5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51CE3-1749-4FA3-B62B-C8901931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F9F7B-F242-4814-A5DA-5439EACD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B9656-C69C-470F-B6B4-4078FEA1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95CE7-CCFB-4FDA-9287-D0432F45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04015-45FB-4025-BABC-8A797C0C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D48C00-F95F-4086-9F00-B50C6114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F23E8-1750-452B-9285-3C377C12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BA2C7-2A03-49E0-87A2-3B9A9ED7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862D-9731-486A-9B0E-78A5CD8A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C76DE-9236-42B6-AE28-BF3D7EDB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B28EB4-63AE-4DAB-800C-3B438600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203C4-A683-4B69-99C5-95B4979B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73F01-902E-4EC3-8924-F1C40507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32605-0ACB-4DD4-B78F-5077F2C3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40137-0A13-498E-8BAE-74945B4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43D6C-7624-4FEC-8C5B-D4955ABA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8B356-8D03-457D-A6C5-7FEB9511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A896D-A181-497C-9C0C-3A51655F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A527C-6534-4967-B473-7605AD0F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B76B-E702-4604-85C9-18B5CBAF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1D844-3320-4B35-8055-8062F694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E6EEE-BD53-4D94-8B2D-EF8D7C0C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4DAA1-06A6-4DDC-B01D-3634CF4E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22506-EE32-4CB0-96DB-7B4B2E93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79C9B-9F1D-4CD2-A081-DD130A77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2B25F1-2A2F-4C29-B7FB-890BA73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A9A06-123B-4CB3-A22F-7A6F8684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6D626-0722-4A66-BD4A-B6FFE33E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54D73-660D-4353-A662-0A0D14DB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34F82-1502-42E6-97C4-52203288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8F0E-F41C-4239-98EC-6D11C6F7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2F6235-11F8-44E0-A1A9-3AA11AFA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0E15FE-3BD3-40CB-B519-5A73246E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748D22-1E92-484D-94B3-475CF1F2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007F2-5B94-45EB-B952-1339E664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8FE24F-877F-4910-8DF1-AFE90482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CC88B8-2963-4F63-8684-09235671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57187-ACAD-4109-9D7C-ACFC701F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6DF0C-55F9-4CE1-8122-7B651B11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7FFFC-7AB7-442B-9B16-35AC5D2C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D0697-E958-43E1-B716-6ACD554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6BA-D1DB-425A-96A1-FCEC396C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8617-28AD-4873-A5FF-8AC819F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739DC-F85E-4017-BF69-AA74AC3B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E115F-8EFC-4658-B5B6-EE1F2F94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074E2-7D3B-4A9F-B636-D9D0502C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12519-E66F-461D-AFB0-BDC1EB50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DFFF9-B53D-4746-BB28-C1C8A95B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7D6C1A-2327-47E0-BB11-A87C2DC1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3AB50-81F6-4B08-8F29-F470F974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77E0D-3CDE-472F-B453-C95F739E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6BB0B-9186-4E35-A03E-6C007701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CC4A58-8034-42AE-8216-A980B3F2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D77B-7D34-4F7A-ACC4-801AA994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9A0F5-8E7A-465B-B1EA-D4FE219D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D280D-5EBC-405B-B5F6-BCE31D17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7DAB2-5E44-4445-8BDB-D6331A1E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CA28C0-E4F7-4586-A4C5-1ABE8AF4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842C80-EA72-479C-9C3B-F1B4A313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54B54-A0FD-4442-8203-205BEE64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82198-1308-4200-A732-390A2D2B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C91A41-50DC-4633-B280-FA1FA3C9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89A77-1931-48B6-A978-A97D17AE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5FB072-60E0-4B3F-A094-028EDF98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DF5D-D32E-409E-823D-2E5AF426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3226D-DF95-48B3-BF22-43AF0EBA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AC720-B344-47BA-B132-C957688E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B8D08D-D95E-4230-BD7E-DF2274FC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E97E6-653F-446D-BD3F-5DAD63F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9B00CC-1366-4043-A7EE-D16F6A62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B75B4-14BE-43AB-A35F-016A9731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20AB9D-DCC0-4132-BD5A-A835D70A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23D47-CC9D-49D0-8412-E207AFA7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BF319-54A6-42B4-B446-BD1ED04C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F0D413-49EF-4B8A-8263-28B9A912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1CCB-1B66-425E-8E4F-84E80ADE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5B62F2-D74B-4161-A7B7-B65AC022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BBF96-6248-422F-B176-E4C0AC79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4F424A-E3E8-4E33-9DC4-409CBC9D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B6245D-1F61-42B6-88D2-F6FD45DB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AD301-7CB2-4B3A-8DE5-88D2096C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248197-DF1D-4875-BEDF-25D3713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D47039-F070-47E1-B82A-AA435974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7172E-0D57-4143-8321-C23B7633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5F6909-E669-4D84-9CE7-C68290C9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75A34D-586C-4FDE-ABEC-BE970DB3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07F6-DB16-4B61-9D39-187D7ABD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CEEAC-4C6C-49E9-AECC-9EF9C039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B541CA-1CEF-4FD3-AE7E-B1FC2922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D07FAC-492B-4772-87C7-A3EE5B2D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7595A4-98F0-4AD7-9995-CF0014F1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9C4CE7-B2A3-4A16-975D-E84D1793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2369DA-540C-4924-AC5E-DB98382D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14E220-DF3D-4C36-AA7E-0D532F09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E54D5E-F8DE-45B3-9219-32E1AEB7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4191F7-BD03-4AF9-8C11-05B00CD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CBD77-E46D-43B7-833E-60E45319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DB6D6-EE92-4E90-B445-F25C6E89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95B617-5E72-4C06-B2CC-035099F4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A5B882-AF6F-4933-827A-2545FBD7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C42315-7A6D-47B6-A40C-2CE6115F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AA2D30-9D72-42CE-BE3E-F1E921CD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8C9A5D-8984-4961-A422-AD7501F5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DE123-549B-4AA1-825C-A3458B36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CF899-B656-482F-AB33-DE9D3A17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2967C-A6E9-4C1D-A67E-DE1883E1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DDACEB-7E65-4E6D-8361-EA569B66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EEBE3A-0BB6-4C61-9FAE-0079254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DD7D-6E6E-4F50-8D5B-2D22E796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FCDA0A-16DF-4030-B5B6-6CF6190E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4F81C6-B054-45D1-905F-E70F7386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2DD6B2-19F2-4F1E-9156-3B013862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6880E6-81D6-48B7-A3FB-3D4B8780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F3A654-0D8B-424D-AA25-52FA0BE8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39282-F06A-4BC0-946D-33F5489B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C990-D005-4FDD-93F3-72D7A551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D330-B628-440B-B816-3E023C32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F02-E4A0-45B3-8464-4B08E8FD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0925-602E-4A34-AC67-5FEC46AA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2443-1A25-40C0-8A66-0CBC91B1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5934F-3841-4A58-BFBC-E8F01069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0648-C187-4830-9BC1-EDE1AE5A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F6B8-30AF-43E3-9C4F-C08D7685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2E27-F97A-44D8-B6BB-151DC7DD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B1D2-90DE-4BC4-8CD3-16E8B3CB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42D5-F8CB-4884-8A70-3206F7CD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4FF4-389A-4DD6-B1B6-C854FB63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318F-3890-40AA-BEFD-D29E3715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728-F9C8-4E82-AA22-AB64D047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5121A-CCF7-4B9B-8542-CAD067AD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50EB-6E0A-4562-987E-9B7F381E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02378-B92E-4EBE-A659-D2642BE2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DC6FF-A021-4717-A31D-03D3D0FB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663E2-C6E2-49C6-B65A-1E64DBF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2D91-D5D8-4CCA-9C02-E1A23BAF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09A4-0A4D-4075-9FAF-ADC3566E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85CBE-323D-45EF-A738-7D88A546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D4AC0-9E97-4402-ACF4-C5E45F43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6600B-A261-4E2C-8523-56DEBF2F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097-B21F-45B4-A7AA-D1CE6F9A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216BC-3571-451A-8449-E746E665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F1143-FC65-402F-B9A2-9BD6811C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FB6E2-46D8-41CF-9807-DA6CAE68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16748-94D0-404E-B087-A9FD4368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9B9F6-6E95-4603-85F3-DB607E4B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A6D42-C4AA-4B02-A0F9-BD46D385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FE8A0-1A86-4650-A156-B4C09864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94D3-3FAE-47B7-9585-7D23F1CA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BBBD-4AA4-4AFD-98A7-7BC9F2F5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F2195-99A2-4B86-BE1E-4DE64273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EC6-8D7D-442A-BBCB-1D132878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6CB61-AD8A-4AD5-B889-EEF0CC55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793C0-1A86-4FEA-BB69-AB7C9DC4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2A848-14B7-428E-8037-4A6A3F7C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C7665-41AB-4395-8352-B2F8A5D6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15ADC-2D2C-4603-9B7D-806CBA6A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7AB39-B13A-4754-9C7D-AABE3B88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B1A4A-0CF4-43C6-88B1-51D7D08B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C467-AAA2-44BC-BEE3-90E2AEFA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828FC-997D-40DD-B98C-73C83AA5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F97BB-0D9E-4EBD-9A60-1E152D56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380-67A0-426B-AF01-2CF2C2D9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4E015-0CDC-400F-A31F-0FD1C463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00DC2-3AF4-4E3C-B697-74A3F0E5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A15C9-9C1B-4DE9-AB8C-B905FBCF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33D15-73D9-4845-B2D6-6FB9547B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A3FC1-D4F4-45C9-B7D8-76FFB624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04982-1F24-4C56-BB17-3CED71BD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E5FC8-78E0-4D95-B1AD-07AB319D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6138C-81AC-4A11-AEF7-4A492438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1AA3F-546A-4259-8569-5250D0CC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AA65B-516B-43F6-A571-D50DFDC1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07D-A070-4891-ADA2-4CD64B0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970C4-DC22-4CA5-A50A-40F3E2EB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6FB01-E08F-4D7F-8DA6-6A62F193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80F51-0332-4951-ABD5-BB731747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5D52C-D8E2-49F2-9FD6-88C036F8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C9E96-C7CF-4CBD-96BB-D66A427A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0992E-E16A-4D04-8145-0CA30AEC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8D4B9-23CF-4C38-946E-9723FFD0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1C3BC-0C4E-4850-A427-0D2F4FC4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A3E33-5749-4C8F-ABB1-7F7AE509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98FF6-428F-4B71-B106-C71899F7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DEA-CA1F-42E4-B0DA-7E417C6F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CF8B4-342A-4FFC-8964-13DA0D77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6FC40-43FA-4964-8F05-65207FA8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7FCD9-E8F9-4569-9CC7-A10CB1FA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09ED0-27EC-48AC-9752-D13FEB7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2A1D0-A69D-43FE-9328-5A0AA712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EE5F5-5BE1-47ED-BEDC-C9B1DE42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D2C0B-D85B-43DE-9CB8-219D4B7A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B7806-D14A-4401-AE15-A791DB85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4081D-9C3E-45B4-8C3D-E972D24B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A1DA8-DE8E-43B5-9517-4F0E04A5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499C-408E-482F-BA39-795C64C9F4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3CB9-0DBE-4E04-B9DB-A6525D8F3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4921-B8F6-487E-AAC9-7D14DB9034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8FA6-0418-49D8-9B1D-3A7972617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538A-57B7-41B1-80FA-C561DBF8D9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A860-BF09-4D64-9EEF-F1B374C610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D9EC-4E12-4133-AD4A-CF9F89A005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A364-0337-4B58-9AA1-EE40DED0D5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5016-B4EC-4BF3-B6AF-A4C797614D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5616-5350-49F4-A4CF-EFD169FADC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7A8E-D9B3-4B85-B63D-265F518C12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7A0A-1EB8-4DA6-9174-44D3A88B28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AD66-E70B-495D-B817-5BD360EAC8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E7C2-B82B-42B1-A005-CF84C6F81A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94CC-74F2-46D5-9E09-410F727383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27BA-C502-4942-A34D-279A44234B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92BB-2D89-4109-856B-B2AAC194A4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BB56-BE9B-44D0-91B7-1250286A8B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C823-06C3-4E06-909F-E7784B840A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85EA-BB5D-4B20-99D9-5057D20A8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F676-2B7E-4382-AA24-AD53D14ED2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CCD1-7DC2-439C-8A21-C6906055F4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209E-D647-4CB1-8877-C339170C8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B810-A9AC-4A20-B674-9F0B7795A6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A8E0-3172-4FE6-A2B2-F566C8239C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2E20-ADEA-4698-806E-584859923A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A44F-B83A-4073-891A-76023B999C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157D-8ECE-4838-862B-1184027414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3D7E-170F-4BBC-9CC5-B9863044D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2BAD-27E4-4EC2-BE5C-14CB3EE1D5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BBF4-16DB-493A-B84D-B7E708CEEC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3B46-5BDB-4068-BF4D-6609B4546A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CFA4-A93B-4D88-BD70-244CEFE91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AE7A-AA1E-40B0-967C-684BBF633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E4F4-10DE-46C3-A3BC-86790C7F5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EEE9-015C-4B77-9434-EB0F7B7EDB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7D01-A85E-4A1D-BC0C-7CF2819A9B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0054-A89A-40F6-BBC7-FE8BB518A2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BABB-8015-429A-9982-EAA4125ABD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724F-F94B-489D-8461-A251E21CAA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D35B-2ADF-410A-832F-0B3DDF7677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314440" y="2990880"/>
            <a:ext cx="45151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633240" y="1395360"/>
            <a:ext cx="7877520" cy="4067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692360" y="34862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2195640" y="34718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2700360" y="3500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3203640" y="3500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3751200" y="3500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4211640" y="3500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4716360" y="34574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5219640" y="3443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1865160" y="46101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3995640" y="46386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6141960" y="45957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8158320" y="46101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1979640" y="5084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5"/>
          <a:stretch/>
        </p:blipFill>
        <p:spPr>
          <a:xfrm>
            <a:off x="3981600" y="5084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6"/>
          <a:stretch/>
        </p:blipFill>
        <p:spPr>
          <a:xfrm>
            <a:off x="6141960" y="5084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7"/>
          <a:stretch/>
        </p:blipFill>
        <p:spPr>
          <a:xfrm>
            <a:off x="8115480" y="508464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图片 7169" descr=""/>
          <p:cNvPicPr/>
          <p:nvPr/>
        </p:nvPicPr>
        <p:blipFill>
          <a:blip r:embed="rId1"/>
          <a:stretch/>
        </p:blipFill>
        <p:spPr>
          <a:xfrm>
            <a:off x="628560" y="1143000"/>
            <a:ext cx="7886880" cy="457200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7170" descr=""/>
          <p:cNvPicPr/>
          <p:nvPr/>
        </p:nvPicPr>
        <p:blipFill>
          <a:blip r:embed="rId2"/>
          <a:stretch/>
        </p:blipFill>
        <p:spPr>
          <a:xfrm>
            <a:off x="1663560" y="17002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7171" descr=""/>
          <p:cNvPicPr/>
          <p:nvPr/>
        </p:nvPicPr>
        <p:blipFill>
          <a:blip r:embed="rId3"/>
          <a:stretch/>
        </p:blipFill>
        <p:spPr>
          <a:xfrm>
            <a:off x="4427640" y="17002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7172" descr=""/>
          <p:cNvPicPr/>
          <p:nvPr/>
        </p:nvPicPr>
        <p:blipFill>
          <a:blip r:embed="rId4"/>
          <a:stretch/>
        </p:blipFill>
        <p:spPr>
          <a:xfrm>
            <a:off x="7164360" y="17146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7173" descr=""/>
          <p:cNvPicPr/>
          <p:nvPr/>
        </p:nvPicPr>
        <p:blipFill>
          <a:blip r:embed="rId5"/>
          <a:stretch/>
        </p:blipFill>
        <p:spPr>
          <a:xfrm>
            <a:off x="1677960" y="23194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85" name="图片 7174" descr=""/>
          <p:cNvPicPr/>
          <p:nvPr/>
        </p:nvPicPr>
        <p:blipFill>
          <a:blip r:embed="rId6"/>
          <a:stretch/>
        </p:blipFill>
        <p:spPr>
          <a:xfrm>
            <a:off x="4154400" y="23194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7175" descr=""/>
          <p:cNvPicPr/>
          <p:nvPr/>
        </p:nvPicPr>
        <p:blipFill>
          <a:blip r:embed="rId7"/>
          <a:stretch/>
        </p:blipFill>
        <p:spPr>
          <a:xfrm>
            <a:off x="7135920" y="23194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7176" descr=""/>
          <p:cNvPicPr/>
          <p:nvPr/>
        </p:nvPicPr>
        <p:blipFill>
          <a:blip r:embed="rId8"/>
          <a:stretch/>
        </p:blipFill>
        <p:spPr>
          <a:xfrm>
            <a:off x="1360440" y="5227560"/>
            <a:ext cx="1757520" cy="41616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7177" descr=""/>
          <p:cNvPicPr/>
          <p:nvPr/>
        </p:nvPicPr>
        <p:blipFill>
          <a:blip r:embed="rId9"/>
          <a:stretch/>
        </p:blipFill>
        <p:spPr>
          <a:xfrm>
            <a:off x="5680080" y="5227560"/>
            <a:ext cx="1757520" cy="4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图片 8193" descr=""/>
          <p:cNvPicPr/>
          <p:nvPr/>
        </p:nvPicPr>
        <p:blipFill>
          <a:blip r:embed="rId1"/>
          <a:stretch/>
        </p:blipFill>
        <p:spPr>
          <a:xfrm>
            <a:off x="1933560" y="1800360"/>
            <a:ext cx="5276880" cy="325728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8194" descr=""/>
          <p:cNvPicPr/>
          <p:nvPr/>
        </p:nvPicPr>
        <p:blipFill>
          <a:blip r:embed="rId2"/>
          <a:stretch/>
        </p:blipFill>
        <p:spPr>
          <a:xfrm>
            <a:off x="2484360" y="4435560"/>
            <a:ext cx="175752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21:2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